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B8D-725A-45F6-9D7E-9B045479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6BB-CA4C-4542-89F2-317F0D3C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0AF-6EB1-4977-8BD0-5657686C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336-DEFB-4F10-BEF3-7670A7FB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513-CE5D-4A3F-8A86-5A6A504E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3EC-88F6-4923-94EF-2E38E97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227-779E-46E4-82EA-27586F1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FA0-24CB-4F58-A238-A5FD3E8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855-982D-48FA-8925-744DF27D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A4E-35D7-48EE-9212-FCC3AD3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6AA-7FD8-4AD3-A589-B62CC5D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3AB-160C-445C-B49B-F53AB45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CF22-8FB9-447D-B934-82F125D5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40000" y="2060640"/>
          <a:ext cx="4038480" cy="165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0384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340000" y="4076640"/>
          <a:ext cx="4038480" cy="194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076640"/>
                    <a:ext cx="40384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68360" y="189000"/>
          <a:ext cx="4038840" cy="1703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189000"/>
                    <a:ext cx="40388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959120" y="6113520"/>
            <a:ext cx="49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.1 Birmingham Mortality DG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85880" y="2109960"/>
          <a:ext cx="5772240" cy="26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2109960"/>
                    <a:ext cx="5772240" cy="26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52:24Z</dcterms:created>
  <dc:creator>peter congdon</dc:creator>
  <dc:description/>
  <dc:language>en-US</dc:language>
  <cp:lastModifiedBy>peter congdon</cp:lastModifiedBy>
  <dcterms:modified xsi:type="dcterms:W3CDTF">2007-02-07T15:30:57Z</dcterms:modified>
  <cp:revision>7</cp:revision>
  <dc:subject/>
  <dc:title>Slide 1</dc:title>
</cp:coreProperties>
</file>