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861-7F66-4161-A620-E690C0D5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C9B-B517-4F66-97BC-506ECC11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66C-29B4-4274-8B1C-0436E599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F96-414D-4A29-BFEC-E7CF9F2E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C8A-D850-4B08-8BEF-8C420A9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6B3-7BD3-4F1D-977F-86AC6148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5B6-48FD-42F1-B02B-8369BAFB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720-71FF-4166-B2CF-2DE70B84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44A-9192-4C17-83BE-949D1BAB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A71-3BA6-4629-A9F3-A29D498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BA2-43C6-4042-BE6E-658AB97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1EF-9ED0-4329-94FF-99354268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2C43-7615-4852-8E7A-4DCB9F4482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82800" y="3573360"/>
            <a:ext cx="3008160" cy="2187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57720" y="3573360"/>
            <a:ext cx="3008520" cy="2187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59520" y="1052640"/>
            <a:ext cx="300672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84240" y="1052640"/>
            <a:ext cx="3006720" cy="218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20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7.1 Residual Plots, DPP Mixtur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0:22:01Z</dcterms:created>
  <dc:creator>peter congdon</dc:creator>
  <dc:description/>
  <dc:language>en-US</dc:language>
  <cp:lastModifiedBy>peter congdon</cp:lastModifiedBy>
  <dcterms:modified xsi:type="dcterms:W3CDTF">2007-09-09T12:25:55Z</dcterms:modified>
  <cp:revision>6</cp:revision>
  <dc:subject/>
  <dc:title>Slide 1</dc:title>
</cp:coreProperties>
</file>