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BB4-ABB7-4907-993F-11F102A1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9C2-4B9A-402D-8C56-63C6E57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C88-ADF7-427A-A5D1-4CA10B3C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470-B4FC-4EFB-B690-E022D45F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9DC-A58F-45E7-B3FD-5241F5DB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276-D526-4125-B648-46F6651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5CC-4F77-4AF5-A535-4604F487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64A-A4E1-4932-9BCC-07A53E7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038-54BD-451D-9FE5-FB2944E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E72-2477-4526-849A-E6DDDD3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5FD-B69F-4CFF-BD7F-F64839B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23D-7492-49E4-83FE-2652CE7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495-681C-476F-A0A3-1AEC5AE6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55600" y="255600"/>
          <a:ext cx="863424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255600"/>
                    <a:ext cx="86342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1:59:44Z</dcterms:created>
  <dc:creator>peter congdon</dc:creator>
  <dc:description/>
  <dc:language>en-US</dc:language>
  <cp:lastModifiedBy>peter congdon</cp:lastModifiedBy>
  <dcterms:modified xsi:type="dcterms:W3CDTF">2007-04-21T12:00:05Z</dcterms:modified>
  <cp:revision>1</cp:revision>
  <dc:subject/>
  <dc:title>Slide 1</dc:title>
</cp:coreProperties>
</file>