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E079-C6E4-42D3-A3E0-783FD923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E9F-C80D-4679-A132-0E83F57C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CA2-480C-49F9-871A-B5EA0FFE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8019-1755-4C3D-9AFB-A144EE05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2E9-55CA-4A7D-B32A-A8CFFBEF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E16-FC05-4A0C-8EF8-CE455965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AAE-B1AD-45D8-9355-443A21E4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7DD-F246-4354-AF9A-F118B9C9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BB3-AE7E-4D26-826B-9F30927B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22F-BB24-4656-97BA-298F8A04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6DF-D10A-407B-AD07-C76790DC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765-CB3C-4A66-85E1-87A0F370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D7CA-9D2E-445A-9B17-365EDF9EC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27640" y="1125360"/>
          <a:ext cx="4537080" cy="237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125360"/>
                    <a:ext cx="4537080" cy="23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50920" y="3716280"/>
          <a:ext cx="4032000" cy="23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716280"/>
                    <a:ext cx="403200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79280" y="1125360"/>
          <a:ext cx="4103640" cy="2374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125360"/>
                    <a:ext cx="410364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340000" y="189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.1 Air Passenger B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332240" y="3716280"/>
          <a:ext cx="4811760" cy="23767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32240" y="3716280"/>
                    <a:ext cx="481176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685880" y="2109960"/>
          <a:ext cx="5772240" cy="263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2109960"/>
                    <a:ext cx="5772240" cy="26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14:52:24Z</dcterms:created>
  <dc:creator>peter congdon</dc:creator>
  <dc:description/>
  <dc:language>en-US</dc:language>
  <cp:lastModifiedBy>peter congdon</cp:lastModifiedBy>
  <dcterms:modified xsi:type="dcterms:W3CDTF">2007-02-08T20:05:04Z</dcterms:modified>
  <cp:revision>9</cp:revision>
  <dc:subject/>
  <dc:title>Slide 1</dc:title>
</cp:coreProperties>
</file>