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F11-DB11-4EF2-82C0-98980432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2D7-0E81-414A-91EF-848F26B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71E-A4AB-4BCC-94F7-64897D5E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663-1785-46FF-8DB7-9A3C81A5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085-D7D8-4DF1-B1C3-98E246ED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16D-D277-4C58-9E2B-B564F773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03D-043D-4AB0-94AA-8B2CAC1F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8B2-0573-40AB-9D4C-A74C95A2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BB3-5844-452A-A704-323C6BE2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C0E-7C40-4010-BCDE-F7C2CCB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6CB-51DB-4CAC-AA84-F8DF600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547-6D83-48EF-BB2C-CE542E8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32BE-EB8F-4E9D-ABB2-486AC52CE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50880" y="1341360"/>
          <a:ext cx="6765840" cy="3912840"/>
        </p:xfrm>
        <a:graphic>
          <a:graphicData uri="http://schemas.openxmlformats.org/drawingml/2006/table">
            <a:tbl>
              <a:tblPr/>
              <a:tblGrid>
                <a:gridCol w="1784160"/>
                <a:gridCol w="545760"/>
                <a:gridCol w="510840"/>
                <a:gridCol w="512280"/>
                <a:gridCol w="512280"/>
                <a:gridCol w="512640"/>
                <a:gridCol w="512640"/>
                <a:gridCol w="510480"/>
                <a:gridCol w="512280"/>
                <a:gridCol w="852480"/>
              </a:tblGrid>
              <a:tr h="526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9.1 Log-logistic model parameter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Log-logist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-logistic with childless frac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-logistic with childless fraction and frailt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s of educ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sibling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migr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income at age 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ing in city at age 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al age (typical individu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-logistic shape paramet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rtion Childl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ilty Standard Devia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0:04:12Z</dcterms:created>
  <dc:creator>peter congdon</dc:creator>
  <dc:description/>
  <dc:language>en-US</dc:language>
  <cp:lastModifiedBy>peter congdon</cp:lastModifiedBy>
  <dcterms:modified xsi:type="dcterms:W3CDTF">2007-04-02T14:04:19Z</dcterms:modified>
  <cp:revision>2</cp:revision>
  <dc:subject/>
  <dc:title>Slide 1</dc:title>
</cp:coreProperties>
</file>