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934-C6D4-4A44-8439-A7C1A920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6E3-13E9-4F99-BDCB-F7FD6405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5095-0E87-438F-A93E-AF253145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08B-2695-4C22-82E0-E2747384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FCC-22BC-4E5E-BB82-18017CE5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420-5DDA-4754-9FC7-F7227F68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8A33-98B2-4329-AA23-2814D44E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0EAA-859D-44A8-868F-FB84561F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0981-F55E-449E-ADE0-0BF12138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2186-8B21-4997-990B-6DFCCD92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F79-B967-4A2C-8862-95C01034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F180-945B-4357-9854-DF23464C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7618-A6EA-4889-A1CF-FC881F881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195640" y="1052640"/>
          <a:ext cx="4968360" cy="4101480"/>
        </p:xfrm>
        <a:graphic>
          <a:graphicData uri="http://schemas.openxmlformats.org/drawingml/2006/table">
            <a:tbl>
              <a:tblPr/>
              <a:tblGrid>
                <a:gridCol w="953280"/>
                <a:gridCol w="871560"/>
                <a:gridCol w="872280"/>
                <a:gridCol w="1135440"/>
                <a:gridCol w="1135800"/>
              </a:tblGrid>
              <a:tr h="2887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4.1 Treated schizophrenia by age &amp; sex 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-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5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7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-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4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-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7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-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6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-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9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8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-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7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6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48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7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5:23:44Z</dcterms:created>
  <dc:creator>peter congdon</dc:creator>
  <dc:description/>
  <dc:language>en-US</dc:language>
  <cp:lastModifiedBy>peter congdon</cp:lastModifiedBy>
  <dcterms:modified xsi:type="dcterms:W3CDTF">2007-02-07T15:37:47Z</dcterms:modified>
  <cp:revision>2</cp:revision>
  <dc:subject/>
  <dc:title>Slide 1</dc:title>
</cp:coreProperties>
</file>