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9BC-7EE3-49E6-9BF3-0A7E3ACC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DCE-A929-4084-A9C8-F9CDBC48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F79-649B-461E-9683-AE48294C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190-2193-406E-ACA4-0A4726BB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D5E-163A-43FB-9A80-24D8FD69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619-8A4C-45CC-BA20-7FBF07DF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6BB-1B60-4A1A-AC80-7F99B9FA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4CD-1606-4124-807B-E416FBFE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5EC-6F0D-4285-9C81-3F2A566A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D0D-9150-481C-9815-20E54F36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34B-FA6B-4916-93F1-549CB7DD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47B-D829-4B96-A50D-5D77BCB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3B5D-56B0-41AA-9A70-BBC64ECD5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484360" y="674640"/>
          <a:ext cx="5915160" cy="6183360"/>
        </p:xfrm>
        <a:graphic>
          <a:graphicData uri="http://schemas.openxmlformats.org/drawingml/2006/table">
            <a:tbl>
              <a:tblPr/>
              <a:tblGrid>
                <a:gridCol w="471600"/>
                <a:gridCol w="714240"/>
                <a:gridCol w="712800"/>
                <a:gridCol w="712800"/>
                <a:gridCol w="714240"/>
                <a:gridCol w="258948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dev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 st.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549360"/>
          <a:ext cx="8229600" cy="6850080"/>
        </p:xfrm>
        <a:graphic>
          <a:graphicData uri="http://schemas.openxmlformats.org/drawingml/2006/table">
            <a:tbl>
              <a:tblPr/>
              <a:tblGrid>
                <a:gridCol w="961920"/>
                <a:gridCol w="1454400"/>
                <a:gridCol w="1452240"/>
                <a:gridCol w="1454400"/>
                <a:gridCol w="1452600"/>
                <a:gridCol w="1454040"/>
              </a:tblGrid>
              <a:tr h="756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dev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 st.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9640" y="1052640"/>
          <a:ext cx="8229600" cy="4657680"/>
        </p:xfrm>
        <a:graphic>
          <a:graphicData uri="http://schemas.openxmlformats.org/drawingml/2006/table">
            <a:tbl>
              <a:tblPr/>
              <a:tblGrid>
                <a:gridCol w="961920"/>
                <a:gridCol w="1454040"/>
                <a:gridCol w="1452600"/>
                <a:gridCol w="1454400"/>
                <a:gridCol w="1452600"/>
                <a:gridCol w="1454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dev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 st.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678600"/>
                <a:gridCol w="1053360"/>
                <a:gridCol w="1680840"/>
                <a:gridCol w="1681200"/>
                <a:gridCol w="1681200"/>
                <a:gridCol w="1454040"/>
              </a:tblGrid>
              <a:tr h="5821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7.3 Political and Economic Risk Factor Mod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dev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C st.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1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0:22:01Z</dcterms:created>
  <dc:creator>peter congdon</dc:creator>
  <dc:description/>
  <dc:language>en-US</dc:language>
  <cp:lastModifiedBy>peter congdon</cp:lastModifiedBy>
  <dcterms:modified xsi:type="dcterms:W3CDTF">2007-09-09T12:18:44Z</dcterms:modified>
  <cp:revision>2</cp:revision>
  <dc:subject/>
  <dc:title>Slide 1</dc:title>
</cp:coreProperties>
</file>